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DD5-4B0F-4821-861C-172E5787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4FF-A3FA-4180-9738-DF8E92DB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507-3FAC-4275-A6DA-89F07A9D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E7A-1D63-425C-9F70-87912C56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002-7DCA-44A6-A4CC-FABC0B5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6DB-560D-4FE1-A328-4D33A83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C05-E8C8-410F-9763-04988BA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68B-4D4B-4862-A07E-0A6033A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D93-8558-42E5-84C0-92093B4F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551-9EA5-4C43-8A8B-6F32D9C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510-F40C-48EC-AC20-7262C4E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BD6-9ACF-4A6A-9279-82927DC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CFD3-3DD2-45E8-BB64-DCE27E97B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uesday, December 2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Rectangle 3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8-12-02T17:47:30Z</dcterms:modified>
  <cp:revision>12</cp:revision>
  <dc:subject/>
  <dc:title>Lesson 5.3 part two</dc:title>
</cp:coreProperties>
</file>